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5D68-312F-4721-A60A-B89EAD58F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0EB2-DD44-47FD-86A9-FB2383C72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6F89-7D1F-4C8F-AB48-43E7CAACA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DDBE-BFA5-4727-B34C-C17634605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E8C4-3623-4A3E-8C87-4A3130916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E2C3-10C6-4BD1-929E-1029CFA2B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5A6D-C97D-40DB-A5F3-A634C649A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356A-9E14-4248-BB1D-EFE8ED6C4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5031-9650-41F9-B144-02122C15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7972-1721-4B47-8E7D-4004DBF1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14F7-5006-473B-A46F-D6D0C0C0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2714-AF4C-4360-BDB4-206E27F5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598E-1BF9-4DEF-BE5A-D9CA109C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8930-EAA3-455C-97F5-6719EB37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C217-BEF3-46D8-8CD7-42D670D5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B341-3026-44FD-82F2-72EAF6EF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BDB1-7407-4A0F-B230-0A3C2FAF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6BA4-852C-434D-89FB-0C1F1C6F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25E8-E1DA-44F5-A1BC-F0018A4B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075E-DF3E-4D5E-B25A-A2A19E90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66EC-E112-43E1-852D-F199BC301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917UC2MZOGU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Buoy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Use the concept of buoyancy to explain how magmas 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Buoya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6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Gravitational energy, thermal energy and/or chemical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2. A system is in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when energy in the system is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Temperature 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is a measure of the movement of molecules. Higher temperature means molecules are moving fast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6. When molecules move faster, the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densit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of most substances decreases.  Water is anomaly because liquid water is more dense than i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7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Buoyanc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causes materials to rise or fall due to the relative density of material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Temperature and Dens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04920" y="121932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How does increasing temperature cause decreasing dens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Increasing temperature causes molecules to move faster, spread out and for the density of decrea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5181480" y="633420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blank005.tripod.com/geology/graphic/tectonics/beaker.g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convectionbeaker.gif"/>
          <p:cNvPicPr/>
          <p:nvPr/>
        </p:nvPicPr>
        <p:blipFill>
          <a:blip r:embed="rId1"/>
          <a:stretch/>
        </p:blipFill>
        <p:spPr>
          <a:xfrm>
            <a:off x="5181480" y="990720"/>
            <a:ext cx="3403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: Buoya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e is a video of a Galileo Thermomet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youtube.com/watch?v=917UC2MZOGU&amp;feature=relat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ubbles of different colored material have different chemical properties that mean their density changes at different temperatures.  As a result, they are more or less buoyant at different temperatu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Buoya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Q. What is buoyanc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228600" y="58752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The force that is equal to the weight of the water the object dis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6324480" y="4572000"/>
            <a:ext cx="281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misclab.umeoce.maine.edu/boss/classes/SMS_491_2003/buoyancy.g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buoyancy.gif"/>
          <p:cNvPicPr/>
          <p:nvPr/>
        </p:nvPicPr>
        <p:blipFill>
          <a:blip r:embed="rId1"/>
          <a:stretch/>
        </p:blipFill>
        <p:spPr>
          <a:xfrm>
            <a:off x="609480" y="1494000"/>
            <a:ext cx="518184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Buoya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Q. How does buoyancy make things float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533520" y="55627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The density of the object is compared to the density of the fluid it is immersed in.  If the object is less dense than the fluid, it will ris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7010280" y="449568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en.wikipedia.org/wiki/File:Buoyancy.sv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500px-Buoyancy.png"/>
          <p:cNvPicPr/>
          <p:nvPr/>
        </p:nvPicPr>
        <p:blipFill>
          <a:blip r:embed="rId1"/>
          <a:stretch/>
        </p:blipFill>
        <p:spPr>
          <a:xfrm>
            <a:off x="2666880" y="1371600"/>
            <a:ext cx="3353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ma Rising in the Lithospher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el the diagram with the caus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Temperature 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is a measure of the movement of molecules. Higher temperature means molecules are moving fast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6. When molecules move faster, the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densit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of most substances decreases.  Water is anomaly because liquid water is more dense than i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7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Buoyanc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causes materials to rise or fall due to the relative density of material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causal processes for magma movement in the lithospher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905120"/>
          <a:ext cx="9144000" cy="4267080"/>
        </p:xfrm>
        <a:graphic>
          <a:graphicData uri="http://schemas.openxmlformats.org/drawingml/2006/table">
            <a:tbl>
              <a:tblPr/>
              <a:tblGrid>
                <a:gridCol w="3733920"/>
                <a:gridCol w="5410080"/>
              </a:tblGrid>
              <a:tr h="1119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Factors impacting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ad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Aspects of the magma or surrounding lithospher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1573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nsity of ma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ad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157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oyancy of the magma/lithosphere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ad"/>
                      </a:solidFill>
                    </a:lnT>
                    <a:lnB w="5760">
                      <a:solidFill>
                        <a:srgbClr val="0000ad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5:36:25Z</dcterms:created>
  <dc:creator>Julie Libarkin</dc:creator>
  <dc:description/>
  <dc:language>en-US</dc:language>
  <cp:lastModifiedBy>Nicole LaDue</cp:lastModifiedBy>
  <dcterms:modified xsi:type="dcterms:W3CDTF">2010-12-15T17:26:42Z</dcterms:modified>
  <cp:revision>314</cp:revision>
  <dc:subject/>
  <dc:title>PowerPoint Presentation</dc:title>
</cp:coreProperties>
</file>